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08F-39D2-485A-A6E9-0ECEDB79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BF2-056B-45B2-A3E0-D3F15F1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FA4-D357-4C40-B5F8-F705C027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547-2D4B-4A87-91E3-4308BB88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54C-37E3-49D3-B13A-89B5836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947-ED74-4D28-8A0B-972B4B3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4F8-F99F-44C6-A097-3A5C22B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9BF-9954-49DD-A9D2-D62BBB6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79A-E15C-4DF8-8AB0-81CF1A75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AFA-2A85-470C-9005-20C229C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7EE-682E-4C9B-888B-30144286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50A-3C8D-4CAA-AC8D-BBC7FDCC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4CDB-1775-47E0-ABCF-999F5E2BE5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aft Recommendations of th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n Joaquin Water Quality Management Grou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 for Achieving Salinity/Boron and DO Objec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/1/0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of SJRWQM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aft Preferred Alternative Elements (cont’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solved Oxygen Solution: additional measu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dditional HOR Barrier use in April-May and July-November to augment LSJR flows.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dditional recirculation as available July-Sept.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Implementation of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Arial"/>
              </a:rPr>
              <a:t>City of Stockton’s ammonia removal project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Arial"/>
              </a:rPr>
              <a:t>Implementation of aeration project in the Stockton DWSC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dditional real-time monitoring and  gap analysi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P Implementation 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Techni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owered flows on Lower SJR – </a:t>
            </a:r>
            <a:r>
              <a:rPr b="0" i="1" lang="en-US" sz="2400" spc="-1" strike="noStrike">
                <a:solidFill>
                  <a:srgbClr val="00cc99"/>
                </a:solidFill>
                <a:latin typeface="Arial"/>
              </a:rPr>
              <a:t>evaluating additional recirculation and HORB use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Brandt Bridge salinity objective – </a:t>
            </a:r>
            <a:r>
              <a:rPr b="0" i="1" lang="en-US" sz="2400" spc="-1" strike="noStrike">
                <a:solidFill>
                  <a:srgbClr val="00cc99"/>
                </a:solidFill>
                <a:latin typeface="Arial"/>
              </a:rPr>
              <a:t>evaluating additional recirculation and HORB use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Poli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llocation of costs and benefits of recirculation for both salinity purposes and lowering dissolved oxygen; high vs. mid priority recirculation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ment of implementation role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ernalis Flow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G Preferred Alternative HP-10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Year Ave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1532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lution Beneficia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Assuming resolution of low-flow issu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ublic/environment – SJR fisheries benefit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Lower SJR water users – reliability/quality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Exporters – improved water quality and 8500 impediment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Upstream users – defined contribution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New Melones users – lessening of other demand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ort of Stockton – aeration partners, other tool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USBR – reduced drainage solution demands, reduced New Melones conflict, meet permit condition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P Implementation Issues cont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NEXT STEP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lution of low flows impact/SDIP compatibility; finalize recommend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m Negotiating Forum/participants for development of an implementation MO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k element f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$40-50 million in drainage action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Newman wasteway upgrades? $5m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tra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43280" y="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lsjr" descr=""/>
          <p:cNvPicPr/>
          <p:nvPr/>
        </p:nvPicPr>
        <p:blipFill>
          <a:blip r:embed="rId1"/>
          <a:stretch/>
        </p:blipFill>
        <p:spPr>
          <a:xfrm>
            <a:off x="1943280" y="1004760"/>
            <a:ext cx="5257800" cy="484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ter Supply Impact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ith Phased SJRIP Implementation: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Year Average High vs. Mid Priority Recircul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ter Cost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G Preferred Alternative HP-20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8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ter Cost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G Preferred Alternative HP-100</a:t>
            </a:r>
            <a:br>
              <a:rPr sz="36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8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n for Achieving Salinity/Boron and DO Objectiv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5724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vervie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roup and Objec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eneral Structure and Strateg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ols and Management Strategies Evalua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raft Recommend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ritical Implementation Issu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ter Cost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G Preferred Alternative MP-20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8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ter Cost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JRWQMG Preferred Alternative MP-100</a:t>
            </a:r>
            <a:br>
              <a:rPr sz="36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8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65760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Aeration Project Are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n for Achieving Salinity/Boron and DO Objective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st of Participa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9588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U.S. Bureau of Reclamatio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Department of Water Resource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USFW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alifornia Dept. Fish and Gam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entral California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riant Water Users Authorit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Grassland Water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James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erced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odesto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akdale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Luis Canal Compan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Joaquin County and Delta Water Quality Coali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Joaquin County RCD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371240"/>
            <a:ext cx="42958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Joaquin River Exchange Contractors Water Authorit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Joaquin Valley Drainage Authorit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Joaquin River Group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n Luis and Delta Mendota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Water Authorit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outh San Joaquin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tate Water Contractor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outh Delta Water Agenc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tockton East Water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Tranquility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Turlock Irrigation Distri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Venice Island RD 202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alifornia Farm Bureau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799"/>
              </a:spcAft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Western Grower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45720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n for Achieving Salinity/Boron and DO 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oup Objective: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epare and implement a plan to  meet the water quality objectives for Salt and Boron at Vernalis and Dissolved Oxygen at the Stockton Deep Water Ship Channel  in coordination with CALFED Stage I objectiv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n for Achieving Salinity/Boron and DO 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linity/Boron Objectives:  April-August - 0.7 EC; September-March – 1.0 E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solved Oxygen – 6.0 mg/l September – November 6.0 between Turner Cut and Stockton, 5.0 mg/l all other Delta locations, all tim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n for Achieving Salinity/Boron and DO Objectives – Tools and Strategies Evalua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Flow Related Ac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ircul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ibutary Coordination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ransfers/exchanges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VAMP Modifications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anagement of Urban Wastewater 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uth Delta Improvements Projec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fuge operational modifica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Load Related Ac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ub-basin load reduction, west side of SJ Valley, and oth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retion Flow Diver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ranks Tract Modifica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issolved Oxygen Aerato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ockton WWTP contr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ditional real-time monitor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valuation with SANMAN Mod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del predicts salinity at Vernalis based on upstream ac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s revised baseline data –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the problem is less than previously believed for salin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perates available recirculation and New Melones storage to achieve salinity objec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model Dissolved Oxygen but can tell you about flo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of SJRWQM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aft Preferred Alternative Element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A phased solution is necessary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451080" indent="-451080"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ong Term 5+years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ll implementation of certain West Side drainage improvements (SJRIP) eliminates salinity violations @ Vernal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1080" indent="-451080"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ort Term 0-5 yea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847080" indent="-28296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d implementation of improvements (SJRIP)</a:t>
            </a:r>
            <a:endParaRPr b="0" lang="en-US" sz="2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of SJRWQM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aft Preferred Alternative Elements (cont’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spcAft>
                <a:spcPts val="13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hort –term continued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Permitted Banks Pumping Plant capacity at 8500 cfs and S. Delta Improvement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Mid- or high-priority DMC re-circulation July-September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Move compliance location for Stanislaus River dissolved oxygen upstream to location of Steelhead habitat.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trategic water transfers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from the SJR Group member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spcAft>
                <a:spcPts val="1250"/>
              </a:spcAft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Continued evaluation/implementation of Refuge actions to help in critical winter/spring periods</a:t>
            </a:r>
            <a:endParaRPr b="0" lang="en-US" sz="2000" spc="-1" strike="noStrike">
              <a:solidFill>
                <a:srgbClr val="00cc99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6:43:31Z</dcterms:created>
  <dc:creator>Byron Buck</dc:creator>
  <dc:description/>
  <dc:language>en-US</dc:language>
  <cp:lastModifiedBy>Ken Petruzzelli</cp:lastModifiedBy>
  <dcterms:modified xsi:type="dcterms:W3CDTF">2005-03-08T22:28:42Z</dcterms:modified>
  <cp:revision>80</cp:revision>
  <dc:subject/>
  <dc:title>San Joaquin Water Quality Management Group  Conceptual Plan for Achieving Salinity/Boron Objectives</dc:title>
</cp:coreProperties>
</file>